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-360" y="-8429760"/>
            <a:ext cx="360" cy="182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B17F-EF80-46FE-B102-37B272A6A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B4C5-603F-4D05-9630-0E4BAF91E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43D8-D291-40C6-861C-36A2D2715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6F52-354B-4702-B363-F481D1699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543A9-C10E-444F-AF63-0B2931A34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7523-96D2-4A33-95D1-CB28BC300A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32DA-A47A-4E1A-B72C-8A427552F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A0B53-33AA-45FC-AD3F-6722C2CA7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48A2-4BA2-47B4-8B6C-DFDF1B930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8822D-E317-4BEC-BB4F-14400A5BD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12C7-A6C5-4989-AEB3-2EC7F4FF9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73E5D-6D6B-4810-AD5B-D04D47850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8640" indent="-27864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3148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9756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ACF3A-EDEF-444D-B841-DF2FBE42D4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180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38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08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144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396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 Narrow"/>
              </a:rPr>
              <a:t>Transition of Slicer2.x Modules to Slicer3: FreeSurfer</a:t>
            </a:r>
            <a:br>
              <a:rPr sz="3000"/>
            </a:b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ntegration of FreeSurfer scalar overlays and colour lookup tables into Slicer3.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600200"/>
            <a:ext cx="381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Nicole Aucoin, BWH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1447920"/>
            <a:ext cx="4724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72280" y="2057400"/>
            <a:ext cx="39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Software: Extend MRML color nodes to include FreeSur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colours. Support scalar overlays on model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362320"/>
            <a:ext cx="2467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196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2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720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37640" y="3733920"/>
            <a:ext cx="39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(Add picture to illustrate accomplish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4080" y="4921200"/>
            <a:ext cx="67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his project didn't get time devoted to it during programming week, it's been reschedu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to February/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4921200"/>
            <a:ext cx="292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200400"/>
            <a:ext cx="3799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2682720"/>
            <a:ext cx="50292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8040" y="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2007 Project Half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